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655D-BAE5-4253-9A1C-2F398109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93D3-4545-4D21-A223-1ADE699A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1B51-7DE6-45C3-BFB4-8948C875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5A63-8DCD-4A20-9BE8-07A4122E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45B-92FC-4AAA-9B64-AE963AFA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BB93-AAB2-42A2-A3EA-6A8D030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14D7-3A64-464C-A9FC-F15143B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565-5DDF-4951-A8FF-1C7ECC9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C07-34D2-4A75-AAB6-E123F26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2A07-602F-4BB7-A2D8-CC19FFFD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8DA6-A10D-494F-BF9F-EBE65EA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A5E4-86A3-4BB2-BAE7-B7FDC1BC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E86E-4124-4C45-9678-A8D0FFD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315F-43F8-484B-891A-6542E52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5CEA-FF8B-4028-B63F-FEC5C34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7FDF-8D88-4CB3-8818-098462E9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B17-ADF0-498E-9278-15D5FA3C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9780-1C2A-4DCF-AF86-E529DA1A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EF41-FFA6-4ABE-95EF-A0C367AC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7B43-4F25-4CAE-B480-F7C40AF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34FB-CF10-4408-88AD-BF571284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F60F-B36E-4565-8845-45551F5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F255-A759-475A-8CF5-B30169CE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C1C3-9D11-4FCC-9BC5-D36396B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98FB-4B82-4EE4-BA07-F04BC7F12E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E91-99A2-4304-ACCA-A22FFD93B0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Alaska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alask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990728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0730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9480" y="0"/>
            <a:ext cx="792504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aska</a:t>
            </a:r>
            <a:endParaRPr b="0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648320"/>
            <a:ext cx="3276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ho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2209680" cy="175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292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 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193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5987880"/>
            <a:ext cx="2286000" cy="19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tate song,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/7/2010,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www.50states.com/Al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Name: Alas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Capital: June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 626,9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 the Union: Jan,3 1959,#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to: North to the fu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kname: Last Fronti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er: Forget me not (Myosotisalpestr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d: Willow ptarmi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ssian version of Aleutian word “Alakshak” meaning “great lands” or “Peninsul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Alaska: Map and State Flag"/>
          <p:cNvPicPr/>
          <p:nvPr/>
        </p:nvPicPr>
        <p:blipFill>
          <a:blip r:embed="rId1"/>
          <a:srcRect l="12688" t="0" r="12688" b="68466"/>
          <a:stretch/>
        </p:blipFill>
        <p:spPr>
          <a:xfrm>
            <a:off x="0" y="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laska: Map and State Flag"/>
          <p:cNvPicPr/>
          <p:nvPr/>
        </p:nvPicPr>
        <p:blipFill>
          <a:blip r:embed="rId2"/>
          <a:srcRect l="0" t="33344" r="0" b="0"/>
          <a:stretch/>
        </p:blipFill>
        <p:spPr>
          <a:xfrm>
            <a:off x="5181480" y="0"/>
            <a:ext cx="396252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495288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Alask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2, 2010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http://bensguide.gpo.gov/3-5/state/alask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812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flag and the map of Alaska cool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All images Copyright © 1997 - 2000 WriteLine. All Rights Reserved. waterfall"/>
          <p:cNvPicPr/>
          <p:nvPr/>
        </p:nvPicPr>
        <p:blipFill>
          <a:blip r:embed="rId1"/>
          <a:srcRect l="0" t="0" r="0" b="8199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46483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Jack Falls, Alask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3, 2010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http://www.postcardsfrom.com/t1/99072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6576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ack Falls that’s amazingly 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All images Copyright © 1997 - 2000 WriteLine. All Rights Reserved. icebergs"/>
          <p:cNvPicPr/>
          <p:nvPr/>
        </p:nvPicPr>
        <p:blipFill>
          <a:blip r:embed="rId1"/>
          <a:srcRect l="0" t="0" r="0" b="6555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4343400"/>
            <a:ext cx="525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y Arm Fjord, Alask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3, 2010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http://www.postcardsfrom.com/t1/99073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657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you ever went ice fishing you can ther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8Z</dcterms:created>
  <dc:creator>install</dc:creator>
  <dc:description/>
  <dc:language>en-US</dc:language>
  <cp:lastModifiedBy>install</cp:lastModifiedBy>
  <dcterms:modified xsi:type="dcterms:W3CDTF">2010-10-14T13:19:54Z</dcterms:modified>
  <cp:revision>12</cp:revision>
  <dc:subject/>
  <dc:title>Slide 1</dc:title>
</cp:coreProperties>
</file>